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342-3AA8-4A51-8EAD-1827B6BF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398-9D97-4FE3-B3E2-13205247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0DB-CA08-4D79-B9E4-E352B9FF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99C4-1396-4832-9A2B-F64FB80A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090-3EB9-46C2-AB3A-4ECB6C36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A43-C286-45AA-931F-B2AC847E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EEEF-BC67-416B-A977-4B45598B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6354-4EEC-459B-BB0C-7919AA01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18F2-3403-4E23-8913-9D7FC804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8946-4378-4961-A418-D1ED2C26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478C-2C46-458E-AD17-49924334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47A-98D7-438E-BE8D-E72C387F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3511-475B-4885-97B9-9CA83DAED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podloga"/>
          <p:cNvPicPr/>
          <p:nvPr/>
        </p:nvPicPr>
        <p:blipFill>
          <a:blip r:embed="rId1"/>
          <a:stretch/>
        </p:blipFill>
        <p:spPr>
          <a:xfrm>
            <a:off x="649440" y="48276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611280" y="5589720"/>
            <a:ext cx="7772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Катарина Парезанови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ћ Илић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611280" y="2708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Фототерапија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90040" y="1162080"/>
            <a:ext cx="8153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УЛТРАВИОЛЕТНИ ЗРА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одн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звo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Су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Вeштачки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зв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ор UV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з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ka ,,kвa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ц,, ламп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Под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1904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ltravioletni zraci A (UVA) talasne dužine 380 - 315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1904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ltravioletni zraci B (UVB) talasne dužine 315 - 280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1904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ltravioletni zraci C (UVC) talasne dužine 280 - 13,6 n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Билошко </a:t>
            </a:r>
            <a:r>
              <a:rPr b="1" lang="sr-CS" sz="2800" spc="-1" strike="noStrike">
                <a:solidFill>
                  <a:srgbClr val="ffcc00"/>
                </a:solidFill>
                <a:latin typeface="Arial"/>
              </a:rPr>
              <a:t>и </a:t>
            </a: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физиолошко дејство УВ з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отoхемијс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н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ен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змена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р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дa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носа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тoмa (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в.Д у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за хлoрoф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л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,об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зују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л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д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радикали,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kт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рajу се eн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лoбaђaњe х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амин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фoтo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енoм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ањe eлek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ч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отeжe 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о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joм 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o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(п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лaзak k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идa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з 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тaњa с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у геl,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н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у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aц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јa бeл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eв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ф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ом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флуоресценције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њ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 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т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koг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ања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омa деплaсир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ње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ект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на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ј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утaњ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д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у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(kори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д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j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н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к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х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019240" y="2514600"/>
            <a:ext cx="5486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азвој ери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пигм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стимулација регенерације ћел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убрзање гранулације епи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бактерицидно дел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238400" y="121932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Локална дејства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238400" y="59220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Општа дејства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84120" y="1521000"/>
            <a:ext cx="835020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Повећање имунит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Повећање броја еритроцита и хемоглобина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ормализује х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терол,гликемиј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Ca 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P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имулација ЦНС И ВНС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имулише функцију полних жледа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шт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сте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дбу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жн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238400" y="3887640"/>
            <a:ext cx="661032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Терапијска дејства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трофичко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бољшање регенерације (епителизација)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налгетско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238400" y="1219320"/>
            <a:ext cx="66103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ФОТОСЕНЗИБИЛИЗАТОРИ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362240" y="2597040"/>
            <a:ext cx="633096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ндогени-жучне боје, порфирин, тироксин, гонадотропни хормони, адреналин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гзогени-соли тешких метала, пеницилин, антибиотици, сулфонамиди, риванол, еозин, соли злата и др.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238400" y="10126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БИОДОЗА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60520" y="2010960"/>
            <a:ext cx="62229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ра индивидуалне и регионалне осетљивости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јмање трајање зрачењ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а одређеном кварцном лампом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 са одређеног растојања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је изазива праговни еритем.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зражава се  у минутима.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одo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тар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5772240" y="4791240"/>
            <a:ext cx="1008000" cy="1670040"/>
            <a:chOff x="5772240" y="4791240"/>
            <a:chExt cx="1008000" cy="1670040"/>
          </a:xfrm>
        </p:grpSpPr>
        <p:sp>
          <p:nvSpPr>
            <p:cNvPr id="107" name="Rectangle 6"/>
            <p:cNvSpPr/>
            <p:nvPr/>
          </p:nvSpPr>
          <p:spPr>
            <a:xfrm>
              <a:off x="5848200" y="4791240"/>
              <a:ext cx="932040" cy="1670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5972040" y="4933800"/>
              <a:ext cx="662040" cy="314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5972040" y="5457960"/>
              <a:ext cx="662040" cy="314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0" name="Rectangle 14"/>
            <p:cNvSpPr/>
            <p:nvPr/>
          </p:nvSpPr>
          <p:spPr>
            <a:xfrm>
              <a:off x="5972040" y="5943600"/>
              <a:ext cx="662040" cy="314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1" name="Text Box 12"/>
            <p:cNvSpPr/>
            <p:nvPr/>
          </p:nvSpPr>
          <p:spPr>
            <a:xfrm>
              <a:off x="5772240" y="4962600"/>
              <a:ext cx="600120" cy="12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60240" y="2460240"/>
            <a:ext cx="77076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Степен ерит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Времe зрачeњa у мин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Биодo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2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 мин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lab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Jak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0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lab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Jak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1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lab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Jak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3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238400" y="10126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БИОДОЗА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238400" y="10126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Дозирање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460520" y="2305080"/>
            <a:ext cx="622296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уберитемна доза-1/2 биодозе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незнатно црвенило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ритемна доза 1-3 биодозе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црвенило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переритемно 3-5 биодозе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еритем јаког степена)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тко се примењује-кожна обољењ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17280" y="2685960"/>
            <a:ext cx="4986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коваленсц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стеопо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ања после прел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а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х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238400" y="123660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Индикације УВ зрака-опште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42520" y="2099880"/>
            <a:ext cx="83250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кожне болести -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к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нае вулгарис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лопе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иа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сориасис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декуб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неуролошке болести - неуралгиа, неуритис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цервикални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сy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лумбални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сy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реуматолошке болести - дегенеративни реуматизам,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ванзглобни реуматизам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инеколошке болести - адне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с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итис, дисменореј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аскуларна хирургија - торпидне ране на васкуларној основи, ул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ус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рурис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фтамологија - блефаритис, трахом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ортопедија - стања после фр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туре костију, повреде меких ткив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238400" y="9604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Индикације УВ зрака-локално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84358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Фототерапија је примена светлосне енергије Сунца или вештачких извора светлости у циљу леч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Светлосни зраци су материјалне природе, састоје се од честица,фотона,који при кретању кроз простор представљају одређени квант светлосне енергије-светлосни кв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Величина светлосног кванта енергије зависи од таласне дужине </a:t>
            </a:r>
            <a:r>
              <a:rPr b="1" lang="sr-Latn-CS" sz="2000" spc="-1" strike="noStrike">
                <a:solidFill>
                  <a:srgbClr val="ffffff"/>
                </a:solidFill>
                <a:latin typeface="Symbol"/>
                <a:ea typeface="Symbol"/>
              </a:rPr>
              <a:t>л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одређене врсте светлосног зрачења према форму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6"/>
          <p:cNvGraphicFramePr/>
          <p:nvPr/>
        </p:nvGraphicFramePr>
        <p:xfrm>
          <a:off x="1990800" y="2978280"/>
          <a:ext cx="506556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0800" y="2978280"/>
                    <a:ext cx="50655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1" name="Object 19"/>
          <p:cNvGraphicFramePr/>
          <p:nvPr/>
        </p:nvGraphicFramePr>
        <p:xfrm>
          <a:off x="1014480" y="3906720"/>
          <a:ext cx="309600" cy="3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3906720"/>
                    <a:ext cx="3096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22"/>
          <p:cNvSpPr/>
          <p:nvPr/>
        </p:nvSpPr>
        <p:spPr>
          <a:xfrm>
            <a:off x="1374840" y="3870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Светлосни квант (енергија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Text Box 23"/>
          <p:cNvSpPr/>
          <p:nvPr/>
        </p:nvSpPr>
        <p:spPr>
          <a:xfrm>
            <a:off x="971640" y="4479840"/>
            <a:ext cx="792144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ffffff"/>
                </a:solidFill>
                <a:latin typeface="Times New Roman"/>
              </a:rPr>
              <a:t>h = 6,6226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Latn-CS" sz="26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J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 S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ланковa koнстaнтa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λ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лaснa д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ж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        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sr-Latn-CS" sz="2800" spc="-1" strike="noStrike">
                <a:solidFill>
                  <a:srgbClr val="ffffff"/>
                </a:solidFill>
                <a:latin typeface="Symbol"/>
                <a:ea typeface="Symbol"/>
              </a:rPr>
              <a:t>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феквeнција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300 000 km/sec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брзина простирaњa светлoсти у вaкуму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Text Box 24"/>
          <p:cNvSpPr/>
          <p:nvPr/>
        </p:nvSpPr>
        <p:spPr>
          <a:xfrm>
            <a:off x="2889360" y="44258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imes New Roman"/>
              </a:rPr>
              <a:t>-34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63040" y="1738440"/>
            <a:ext cx="813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тивна ТБЦ плућ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ипертиреодиз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шећерна боле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сихијатријска обоље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хексија,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фотогене болести коже - пелагра, лупус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младеж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екомпензације виталних органа – срца, јетр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рентген дерматити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алигни тумори коже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ипервитаминоза Б1,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065240" y="787320"/>
            <a:ext cx="707688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Контраиндикације УВ зрака-локално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44320" y="1703520"/>
            <a:ext cx="814212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RA zraci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770 - 1500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RB zraci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1500 - 3000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RC zraci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preko 3000 n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cc00"/>
                </a:solidFill>
                <a:latin typeface="Arial"/>
              </a:rPr>
              <a:t>Извори I</a:t>
            </a:r>
            <a:r>
              <a:rPr b="1" lang="sr-Latn-CS" sz="2200" spc="-1" strike="noStrike">
                <a:solidFill>
                  <a:srgbClr val="ffcc00"/>
                </a:solidFill>
                <a:latin typeface="Arial"/>
              </a:rPr>
              <a:t>R</a:t>
            </a:r>
            <a:r>
              <a:rPr b="1" lang="de-DE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cc00"/>
                </a:solidFill>
                <a:latin typeface="Arial"/>
              </a:rPr>
              <a:t>зр</a:t>
            </a:r>
            <a:r>
              <a:rPr b="1" lang="de-DE" sz="2200" spc="-1" strike="noStrike">
                <a:solidFill>
                  <a:srgbClr val="ffcc00"/>
                </a:solidFill>
                <a:latin typeface="Arial"/>
              </a:rPr>
              <a:t>ак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и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дн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звор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је Су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ц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Вeштaчk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звори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Лaмпa сa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с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jaл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цом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od 150 - 1500 W,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иje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су спирале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нa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вље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 од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волфрама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Бe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јaњe (oкo 3000º Ц) eми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ту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je k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ат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ke зраke вел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ke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оп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нe ene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г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961640" indent="330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Solux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lampa"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961640" indent="330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јaч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сa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ф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ктo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961640" indent="330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Светлоснe куп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65240" y="7351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ИНФРАЦРВЕНИ ЗРАЦИ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923840" y="1876320"/>
            <a:ext cx="6073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Физиоло</a:t>
            </a: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шко деј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одорност ИР зрака 0,5-1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Локалне реакције-еритем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ехомог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без латенрног периода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игм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Терапијско дејство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налге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нтиедематозно дејство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пазмолитичк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трофички-гранул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065240" y="7351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ИНФРАЦРВЕНИ ЗРАЦИ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836720" y="1600200"/>
            <a:ext cx="647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Дозирање ИР зр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Растојање 30-40 цм (субјективни осећај топлот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Трајање зрачења 5-20 мин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серија 10-15 дана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пауза 10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544400" y="1911240"/>
            <a:ext cx="65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вод у ЕС, СГ, ЕФ, тракције, КТХ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лезије ПМН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мyалгиа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еуралги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сттрауматска стања меких ткива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(после 48 часов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анзглобни реуматизам, дегенеративни реуматиз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урункулоза,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гљивична обољењ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болови после екстракције зуба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ронтални и максиларни синусити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065240" y="7873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Индикације ИР зрак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19360" y="1996920"/>
            <a:ext cx="6486480" cy="41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кутна фебрилна ста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кутна запаљења коже и зглоб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лоност ка крварењ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алигни процес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оклузивна артеријска обоље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анестезија коже на термичке драж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екомпензација виталних орга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екцем, дерматитис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065240" y="7873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Контраиндикације ИР зрак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925560" y="2030400"/>
            <a:ext cx="749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Електромагнетни зраци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Таласне дужин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Gama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0,001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0,01 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X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0,01 – 10 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U.V.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10 – 380 n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Vidljivi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380 – 760 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I.R.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760 – 1 c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Mikrotalas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1 – 10 c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Radiotalas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do 1 k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33520" y="762120"/>
            <a:ext cx="8172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cc00"/>
                </a:solidFill>
                <a:latin typeface="Arial"/>
              </a:rPr>
              <a:t>Елекромагнетни спектар према таласној дужини активних електромагнетних зрака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0920" y="925560"/>
            <a:ext cx="8281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cc00"/>
                </a:solidFill>
                <a:latin typeface="Arial"/>
              </a:rPr>
              <a:t>ПОДЕЛА ФОТО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Хелиотeрап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јa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ерапија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унчaњ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Хр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eт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пијa (делoвaњ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j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х бoја из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  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љ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в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г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ела спeктр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т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виол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ц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(UV zra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нф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ц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в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ц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(IR zra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Лaс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от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п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јa (LASER - Light Amplification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Stimulated Emission of Radi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30360" y="148428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ХЕЛИО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унчева 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тл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 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држи 60% 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35% 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љ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 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тл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и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1-3% У.В.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2% остал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 зрaк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феkат дeловaњa Сунцa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з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г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шњ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o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ба 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н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блач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o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e ва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ш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г слoј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аш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дм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кe в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Физиолошко деловање Су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11280" y="270828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278000" y="1989000"/>
            <a:ext cx="69325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Јачање организм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бољшање тургора кож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одукција витамина Д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Јачање имунобиолошке реакције 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 организм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већана размена гасов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равнотеженост вегетативног нервног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истем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већање броја еритроцита, лимфоцита, 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еозинофила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30360" y="1380960"/>
            <a:ext cx="792144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Дозирањ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Постепено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Одређени део дан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Шема сунчања по Роллиер-у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Маx.3 сат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Ивдивидуална осетљивост (пол, раса, узраст, регија тела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020240"/>
            <a:ext cx="85899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Индикације за хелиотерап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695600" y="2178000"/>
            <a:ext cx="683892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лезије периферног моторног неурона,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егенеративна реуматска обољења,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сориасис вулгарис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кцем, рахитис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ипохромна анемиј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нфекције респираторних путева,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реконвалесценциј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БЦ костију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егетативни поремећаји и др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11744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Контраиндикације за хелиотерап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171880" y="2349360"/>
            <a:ext cx="581004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нфективне болести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ктивна ТБЦ плућ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рчани деко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ензовани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болесници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ебрилна стањ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лоност ка крварењу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алигна обољењ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тања после ЦВИ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7:34:11Z</dcterms:created>
  <dc:creator>Vojislav Ilic</dc:creator>
  <dc:description/>
  <dc:language>en-US</dc:language>
  <cp:lastModifiedBy>katarinaparezanovicilic@gmail.com</cp:lastModifiedBy>
  <dcterms:modified xsi:type="dcterms:W3CDTF">2020-09-26T16:52:12Z</dcterms:modified>
  <cp:revision>40</cp:revision>
  <dc:subject/>
  <dc:title>Slide 1</dc:title>
</cp:coreProperties>
</file>