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7B38-EC1D-45AF-9A32-7727E2F30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26D6-0F60-4EB7-80A8-406C92E4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6558-B7A4-4E09-8726-11B868E72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21B1-D9D9-4A90-922C-73B420E8E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3989-D10A-4766-A916-02B1A6D48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ACC3-7A03-4342-B731-7FB5441CB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BE81-6791-4D3C-A1A2-85F32DE82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9E6D-455D-4773-A111-5BEAE799A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BBD5-F71F-4498-BF7F-324F3B49E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4575-8B4F-4971-822F-40AA65FA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C4FF-7C97-4E5F-8EC7-FDB7D57F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7B9D-A11A-40EF-A7FE-FD2744C3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BDC9B-57CE-4991-9436-19569794F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1" descr="podloga"/>
          <p:cNvPicPr/>
          <p:nvPr/>
        </p:nvPicPr>
        <p:blipFill>
          <a:blip r:embed="rId1"/>
          <a:stretch/>
        </p:blipFill>
        <p:spPr>
          <a:xfrm>
            <a:off x="738360" y="558720"/>
            <a:ext cx="7667280" cy="574056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9"/>
          <p:cNvSpPr/>
          <p:nvPr/>
        </p:nvSpPr>
        <p:spPr>
          <a:xfrm>
            <a:off x="611280" y="5589720"/>
            <a:ext cx="777240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Катарина Парезанови</a:t>
            </a:r>
            <a:r>
              <a:rPr b="1" lang="sr-Latn-CS" sz="1800" spc="-1" strike="noStrike">
                <a:solidFill>
                  <a:srgbClr val="990033"/>
                </a:solidFill>
                <a:latin typeface="Arial"/>
              </a:rPr>
              <a:t>ћ Илић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3" name="Text Box 16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" name="Text Box 18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" name="Rectangle 20"/>
          <p:cNvSpPr/>
          <p:nvPr/>
        </p:nvSpPr>
        <p:spPr>
          <a:xfrm>
            <a:off x="611280" y="28861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cc00"/>
                </a:solidFill>
                <a:latin typeface="Arial"/>
              </a:rPr>
              <a:t>Физикална медицина и рехабилитациј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а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" name="Text Box 23"/>
          <p:cNvSpPr/>
          <p:nvPr/>
        </p:nvSpPr>
        <p:spPr>
          <a:xfrm>
            <a:off x="1332000" y="185724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ОСНОВНЕ СТРУКОВНЕ СТУДИЈЕ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" name="Text Box 25"/>
          <p:cNvSpPr/>
          <p:nvPr/>
        </p:nvSpPr>
        <p:spPr>
          <a:xfrm>
            <a:off x="1332000" y="221760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СТРУКОВНА МЕДИЦИНСКА СЕСТРА-ТЕХНИЧАР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611280" y="549360"/>
            <a:ext cx="792144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Оштећење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Привремени или трајни психички, анатомски или </a:t>
            </a:r>
            <a:br>
              <a:rPr sz="2200"/>
            </a:b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физиолошки губитак, </a:t>
            </a:r>
            <a:br>
              <a:rPr sz="2200"/>
            </a:b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поремећај структуре или функције</a:t>
            </a:r>
            <a:endParaRPr b="1" lang="en-US" sz="22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660066"/>
                </a:solidFill>
                <a:latin typeface="Arial"/>
              </a:rPr>
              <a:t>Инвалид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Особа која због урођеног или стеченог недостатка физичких или менталних способности не може себи </a:t>
            </a:r>
            <a:br>
              <a:rPr sz="2200"/>
            </a:b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(делимично или у потпуности) </a:t>
            </a:r>
            <a:br>
              <a:rPr sz="2200"/>
            </a:b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да обезбеди услове за вођење личног или друштвеног живота</a:t>
            </a:r>
            <a:endParaRPr b="1" lang="en-US" sz="22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660066"/>
                </a:solidFill>
                <a:latin typeface="Arial"/>
              </a:rPr>
              <a:t>Хендикеп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Степен ограничености које особа показује у самозбрињавању, професији, културном и </a:t>
            </a:r>
            <a:br>
              <a:rPr sz="2200"/>
            </a:b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друштвеном животу</a:t>
            </a:r>
            <a:endParaRPr b="1" lang="en-US" sz="22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660066"/>
                </a:solidFill>
                <a:latin typeface="Arial"/>
              </a:rPr>
              <a:t>Физикална медиц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990033"/>
                </a:solidFill>
                <a:latin typeface="Arial"/>
              </a:rPr>
              <a:t>Ф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yсис</a:t>
            </a:r>
            <a:r>
              <a:rPr b="1" lang="sr-Latn-CS" sz="2800" spc="-1" strike="noStrike">
                <a:solidFill>
                  <a:srgbClr val="990033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при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990033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физикалн</a:t>
            </a:r>
            <a:r>
              <a:rPr b="0" lang="sr-Latn-CS" sz="2400" spc="-1" strike="noStrike">
                <a:solidFill>
                  <a:srgbClr val="990033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 медицин</a:t>
            </a:r>
            <a:r>
              <a:rPr b="0" lang="sr-Latn-CS" sz="2400" spc="-1" strike="noStrike">
                <a:solidFill>
                  <a:srgbClr val="990033"/>
                </a:solidFill>
                <a:latin typeface="Arial"/>
              </a:rPr>
              <a:t>а -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 природна медицина</a:t>
            </a:r>
            <a:r>
              <a:rPr b="0" lang="sr-Latn-CS" sz="2400" spc="-1" strike="noStrike">
                <a:solidFill>
                  <a:srgbClr val="9900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66"/>
                </a:solidFill>
                <a:latin typeface="Arial"/>
              </a:rPr>
              <a:t>Дефини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66"/>
                </a:solidFill>
                <a:latin typeface="Arial"/>
              </a:rPr>
              <a:t>Поде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990033"/>
                </a:solidFill>
                <a:latin typeface="Arial"/>
              </a:rPr>
              <a:t>ФИЗИКАЛНА ПРОФИЛАК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990033"/>
                </a:solidFill>
                <a:latin typeface="Arial"/>
              </a:rPr>
              <a:t>ФИЗИКАЛНА ДИЈАГНОСТИ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990033"/>
                </a:solidFill>
                <a:latin typeface="Arial"/>
              </a:rPr>
              <a:t>ФИЗИКАЛНА ТЕРАП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Задаци физикалне терап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33"/>
                </a:solidFill>
                <a:latin typeface="Arial"/>
              </a:rPr>
              <a:t>успостављање о</a:t>
            </a:r>
            <a:r>
              <a:rPr b="1" lang="sl-SI" sz="2800" spc="-1" strike="noStrike">
                <a:solidFill>
                  <a:srgbClr val="990033"/>
                </a:solidFill>
                <a:latin typeface="Arial"/>
              </a:rPr>
              <a:t>ш</a:t>
            </a:r>
            <a:r>
              <a:rPr b="1" lang="en-GB" sz="2800" spc="-1" strike="noStrike">
                <a:solidFill>
                  <a:srgbClr val="990033"/>
                </a:solidFill>
                <a:latin typeface="Arial"/>
              </a:rPr>
              <a:t>тећених функција или</a:t>
            </a:r>
            <a:r>
              <a:rPr b="1" lang="sr-Latn-CS" sz="2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990033"/>
                </a:solidFill>
                <a:latin typeface="Arial"/>
              </a:rPr>
              <a:t>њихова компензациј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990033"/>
                </a:solidFill>
                <a:latin typeface="Arial"/>
              </a:rPr>
              <a:t>побољшање нарушене ауторегулациј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990033"/>
                </a:solidFill>
                <a:latin typeface="Arial"/>
              </a:rPr>
              <a:t>максимално смањење физичке неспособности после обољења или повре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50920" y="907920"/>
            <a:ext cx="8532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Циљеви физикалне терап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смањење или отклањање бол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побољшање локалне циркулациј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побољшање локалног и општег метаболизм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смањење едем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побољшање еластичности ткив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990033"/>
                </a:solidFill>
                <a:latin typeface="Arial"/>
              </a:rPr>
              <a:t>савладјивање контрактура (артрогене, миогене, </a:t>
            </a:r>
            <a:r>
              <a:rPr b="1" lang="sr-C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990033"/>
                </a:solidFill>
                <a:latin typeface="Arial"/>
              </a:rPr>
              <a:t>дезмогене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...</a:t>
            </a:r>
            <a:r>
              <a:rPr b="1" lang="de-DE" sz="2000" spc="-1" strike="noStrike">
                <a:solidFill>
                  <a:srgbClr val="990033"/>
                </a:solidFill>
                <a:latin typeface="Arial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990033"/>
                </a:solidFill>
                <a:latin typeface="Arial"/>
              </a:rPr>
              <a:t>спре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ч</a:t>
            </a:r>
            <a:r>
              <a:rPr b="1" lang="de-DE" sz="2000" spc="-1" strike="noStrike">
                <a:solidFill>
                  <a:srgbClr val="990033"/>
                </a:solidFill>
                <a:latin typeface="Arial"/>
              </a:rPr>
              <a:t>авање стварања ожиља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990033"/>
                </a:solidFill>
                <a:latin typeface="Arial"/>
              </a:rPr>
              <a:t>стимул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исање</a:t>
            </a:r>
            <a:r>
              <a:rPr b="1" lang="de-DE" sz="2000" spc="-1" strike="noStrike">
                <a:solidFill>
                  <a:srgbClr val="990033"/>
                </a:solidFill>
                <a:latin typeface="Arial"/>
              </a:rPr>
              <a:t> зарастања костиј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990033"/>
                </a:solidFill>
                <a:latin typeface="Arial"/>
              </a:rPr>
              <a:t>смањење тонуса симпатикус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990033"/>
                </a:solidFill>
                <a:latin typeface="Arial"/>
              </a:rPr>
              <a:t>моторна реедукација након одузетости или инактивитет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990033"/>
                </a:solidFill>
                <a:latin typeface="Arial"/>
              </a:rPr>
              <a:t>побољшање вентилаторне функциј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990033"/>
                </a:solidFill>
                <a:latin typeface="Arial"/>
              </a:rPr>
              <a:t>побољшање карди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олошк</a:t>
            </a:r>
            <a:r>
              <a:rPr b="1" lang="de-DE" sz="2000" spc="-1" strike="noStrike">
                <a:solidFill>
                  <a:srgbClr val="990033"/>
                </a:solidFill>
                <a:latin typeface="Arial"/>
              </a:rPr>
              <a:t>е функц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660066"/>
                </a:solidFill>
                <a:latin typeface="Arial"/>
              </a:rPr>
              <a:t>Деловање физикалне терапије на организ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21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локално (локални метаболиза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опште (ва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з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одилатациј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990033"/>
                </a:solidFill>
                <a:latin typeface="Arial"/>
              </a:rPr>
              <a:t>вазомоторне реакциј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990033"/>
                </a:solidFill>
                <a:latin typeface="Arial"/>
              </a:rPr>
              <a:t>интра и екстрацелуларна промена концентрације јо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990033"/>
                </a:solidFill>
                <a:latin typeface="Arial"/>
              </a:rPr>
              <a:t>деловање на 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ћ</a:t>
            </a:r>
            <a:r>
              <a:rPr b="1" lang="en-GB" sz="2000" spc="-1" strike="noStrike">
                <a:solidFill>
                  <a:srgbClr val="990033"/>
                </a:solidFill>
                <a:latin typeface="Arial"/>
              </a:rPr>
              <a:t>елијску пумпу"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990033"/>
                </a:solidFill>
                <a:latin typeface="Arial"/>
              </a:rPr>
              <a:t>измена биоелектри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ч</a:t>
            </a:r>
            <a:r>
              <a:rPr b="1" lang="en-GB" sz="2000" spc="-1" strike="noStrike">
                <a:solidFill>
                  <a:srgbClr val="990033"/>
                </a:solidFill>
                <a:latin typeface="Arial"/>
              </a:rPr>
              <a:t>них потенцијала и формирање  </a:t>
            </a:r>
            <a:br>
              <a:rPr sz="2000"/>
            </a:br>
            <a:r>
              <a:rPr b="1" lang="sr-CS" sz="20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990033"/>
                </a:solidFill>
                <a:latin typeface="Arial"/>
              </a:rPr>
              <a:t>акционог потенцијала нерава и мишиц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990033"/>
                </a:solidFill>
                <a:latin typeface="Arial"/>
              </a:rPr>
              <a:t>процеси биосинтез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660066"/>
                </a:solidFill>
                <a:latin typeface="Arial"/>
              </a:rPr>
              <a:t>Подела физикалне терапије према врсти активне енергиј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611280" y="2708280"/>
            <a:ext cx="792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611280" y="1989000"/>
            <a:ext cx="853272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660066"/>
                </a:solidFill>
                <a:latin typeface="Arial"/>
              </a:rPr>
              <a:t>Област</a:t>
            </a:r>
            <a:r>
              <a:rPr b="1" lang="de-DE" sz="18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660066"/>
                </a:solidFill>
                <a:latin typeface="Arial"/>
              </a:rPr>
              <a:t>Вид енергије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990033"/>
                </a:solidFill>
                <a:latin typeface="Arial"/>
              </a:rPr>
              <a:t>Фототерапија</a:t>
            </a:r>
            <a:r>
              <a:rPr b="1" lang="de-DE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de-DE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de-DE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de-DE" sz="1900" spc="-1" strike="noStrike">
                <a:solidFill>
                  <a:srgbClr val="990033"/>
                </a:solidFill>
                <a:latin typeface="Arial"/>
              </a:rPr>
              <a:t>Светлосна енергија</a:t>
            </a:r>
            <a:endParaRPr b="1" lang="en-US" sz="19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Магнетотерапија</a:t>
            </a: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Енергија електро магнетног поља</a:t>
            </a:r>
            <a:endParaRPr b="1" lang="en-US" sz="19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Термотерапија</a:t>
            </a: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Топлотна енергија</a:t>
            </a:r>
            <a:endParaRPr b="1" lang="en-US" sz="19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Хидротерапија</a:t>
            </a: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Механика 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и</a:t>
            </a: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 топлотна енергија</a:t>
            </a:r>
            <a:endParaRPr b="1" lang="en-US" sz="19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Таласотерапија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Механичка, топлотна и светлосна </a:t>
            </a:r>
            <a:br>
              <a:rPr sz="1900"/>
            </a:br>
            <a:r>
              <a:rPr b="1" lang="sr-C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sr-C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sr-C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sr-C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енергија</a:t>
            </a:r>
            <a:endParaRPr b="1" lang="en-US" sz="19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Електротерапија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Електрична енергија</a:t>
            </a:r>
            <a:endParaRPr b="1" lang="en-US" sz="19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Механотерапија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Механичка енергија</a:t>
            </a:r>
            <a:endParaRPr b="1" lang="en-US" sz="19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Хипербари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ч</a:t>
            </a: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на оксигенација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Хемијска енергија</a:t>
            </a:r>
            <a:endParaRPr b="1" lang="en-US" sz="19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Кинезитерапија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Кинетичка енергија</a:t>
            </a:r>
            <a:endParaRPr b="1" lang="en-US" sz="19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660066"/>
                </a:solidFill>
                <a:latin typeface="Arial"/>
              </a:rPr>
              <a:t>Медицинска рехабилит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611280" y="1628640"/>
            <a:ext cx="792144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Подела рехабилiтације</a:t>
            </a: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66"/>
                </a:solidFill>
                <a:latin typeface="Arial"/>
              </a:rPr>
              <a:t>●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Медиц</a:t>
            </a:r>
            <a:r>
              <a:rPr b="1" lang="sr-CS" sz="2800" spc="-1" strike="noStrike">
                <a:solidFill>
                  <a:srgbClr val="660066"/>
                </a:solidFill>
                <a:latin typeface="Arial"/>
              </a:rPr>
              <a:t>и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нска рехабил</a:t>
            </a:r>
            <a:r>
              <a:rPr b="1" lang="sr-CS" sz="2800" spc="-1" strike="noStrike">
                <a:solidFill>
                  <a:srgbClr val="660066"/>
                </a:solidFill>
                <a:latin typeface="Arial"/>
              </a:rPr>
              <a:t>и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тација</a:t>
            </a:r>
            <a:endParaRPr b="1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66"/>
                </a:solidFill>
                <a:latin typeface="Arial"/>
              </a:rPr>
              <a:t>●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Социјалнa рехабил</a:t>
            </a:r>
            <a:r>
              <a:rPr b="1" lang="sr-CS" sz="2800" spc="-1" strike="noStrike">
                <a:solidFill>
                  <a:srgbClr val="660066"/>
                </a:solidFill>
                <a:latin typeface="Arial"/>
              </a:rPr>
              <a:t>и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тација</a:t>
            </a:r>
            <a:endParaRPr b="1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66"/>
                </a:solidFill>
                <a:latin typeface="Arial"/>
              </a:rPr>
              <a:t>●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Професионал</a:t>
            </a:r>
            <a:r>
              <a:rPr b="1" lang="sr-CS" sz="2800" spc="-1" strike="noStrike">
                <a:solidFill>
                  <a:srgbClr val="660066"/>
                </a:solidFill>
                <a:latin typeface="Arial"/>
              </a:rPr>
              <a:t>н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a рехабил</a:t>
            </a:r>
            <a:r>
              <a:rPr b="1" lang="sr-CS" sz="2800" spc="-1" strike="noStrike">
                <a:solidFill>
                  <a:srgbClr val="660066"/>
                </a:solidFill>
                <a:latin typeface="Arial"/>
              </a:rPr>
              <a:t>и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тација</a:t>
            </a:r>
            <a:endParaRPr b="1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Rehabilitatio-враћaње у пре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ђ</a:t>
            </a: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ашње стање</a:t>
            </a:r>
            <a:endParaRPr b="1" lang="en-US" sz="22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Рехабилiтација представљa другu шансу живота</a:t>
            </a:r>
            <a:endParaRPr b="1" lang="en-US" sz="22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Бави се оспo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с</a:t>
            </a: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обљавaњем инвалидн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и</a:t>
            </a: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х лица у 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у</a:t>
            </a: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жем с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м</a:t>
            </a: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и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с</a:t>
            </a: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лу речи, развијањем до максималних могућности преосталих спо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с</a:t>
            </a: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oбности</a:t>
            </a:r>
            <a:endParaRPr b="1" lang="en-US" sz="22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250560" y="1267920"/>
            <a:ext cx="858996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660066"/>
                </a:solidFill>
                <a:latin typeface="Arial"/>
              </a:rPr>
              <a:t>Принципи медицинске рехабилит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611280" y="2708280"/>
            <a:ext cx="828036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ацијент је субјекат а не објекат</a:t>
            </a:r>
            <a:r>
              <a:rPr b="1" lang="sr-CS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рехабилитације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да по</a:t>
            </a: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ч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не благовремено</a:t>
            </a: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рана рехабилитација)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990033"/>
                </a:solidFill>
                <a:latin typeface="Arial"/>
              </a:rPr>
              <a:t>да буде свеобухватна (тимски рад)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да траје довољно дуго </a:t>
            </a: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док се не исцрпе све рехабилитационе могу</a:t>
            </a: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ћ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ности</a:t>
            </a: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да буде континуирана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Методе медицинске рехабилит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нега болесни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ф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и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з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и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кa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лн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a тeрaп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и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ј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р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аднa те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р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a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п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иј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при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менa протe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т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ск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и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х и о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рт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o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тс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к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их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ср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ед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ст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а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гo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в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о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р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нa терaпијa</a:t>
            </a: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 </a:t>
            </a:r>
            <a:br>
              <a:rPr sz="2200"/>
            </a:b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(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прин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ц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и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п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и р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ешавањa prоблeмa у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 комуникацији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в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aсп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и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тање 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и 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образовa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њ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е</a:t>
            </a: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дeцe 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oмe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т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eнe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пo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м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o</a:t>
            </a: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ћ у 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решавањ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у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п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сих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и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јaт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ријс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к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их 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пр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облем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помo</a:t>
            </a: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ћ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у решавањ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у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сoцијa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л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н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и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х 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пр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облемa</a:t>
            </a: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 </a:t>
            </a:r>
            <a:br>
              <a:rPr sz="2200"/>
            </a:b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п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р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офeс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и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онaл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н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o у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с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мeравање</a:t>
            </a:r>
            <a:r>
              <a:rPr b="1" lang="sr-Latn-CS" sz="2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1T07:34:11Z</dcterms:created>
  <dc:creator>Vojislav Ilic</dc:creator>
  <dc:description/>
  <dc:language>en-US</dc:language>
  <cp:lastModifiedBy>katarinaparezanovicilic@gmail.com</cp:lastModifiedBy>
  <dcterms:modified xsi:type="dcterms:W3CDTF">2020-09-26T16:51:18Z</dcterms:modified>
  <cp:revision>20</cp:revision>
  <dc:subject/>
  <dc:title>Slide 1</dc:title>
</cp:coreProperties>
</file>